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F07-7C36-4EB3-B755-33A6DCE3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2FC-1178-48D9-991E-8000D371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41C3-CEFB-4A6B-A56A-4E1C750C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7D1-A642-4A56-85ED-B03CC6E2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3D0-673C-47ED-804F-AE61E02E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88A-94AF-431B-A952-5622BA5C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086-E9B0-46F0-AC8B-6A5A360D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B82-4674-4562-B190-738F0EAD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A53-9D06-4061-8E36-58DEAB86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B8E-0E9D-471F-BF51-D8ED1C11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115-1261-42AF-8030-BE604A65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A1F-4992-46F5-B030-7D8AE7BF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i Do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32B7-0098-4C27-BF4B-A9A965BE3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Skittles anyone?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By: Andi Dowel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Introduction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Have you ever been eating Skittles and ate a lot of one flavor? Have you wanted more of one flavor before? This experiment will help you know what color/ flavor is used more in Skittles.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Problem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What color/ flavor shows up most in the Skittles Original?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Hypothesis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My hypothesis is that strawberry or the red color will show up more than the other colors/ flavors.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Materials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A minimum of 10 bags of Skittles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Pen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Paper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397200">
            <a:off x="4266720" y="2666880"/>
            <a:ext cx="12510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Procedure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Gather all Material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ount all the green Skittl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ount all the red Skittl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ount all the orange Skittl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ount all the purple Skittl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ount all the yellow Skittl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Write the results down 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ontinue with the other bag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Results (Out of 10 bags)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Red- 113- 18.9%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Yellow- 143- 23.9%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Green- 112- 18.8%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Orange- 113- 18.9%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Purple- 115- 19.3%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Total- 596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ndara"/>
              </a:rPr>
              <a:t>~Conclusion</a:t>
            </a:r>
            <a:endParaRPr b="0" lang="en-US" sz="4400" spc="-1" strike="noStrike">
              <a:solidFill>
                <a:srgbClr val="ff0000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My hypothesis was really wrong. I was really surprised about how the results came out. Almost everyone I surveyed thought that red was the most. Surprisingly, yellow has about 30 more than everything else.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5:06:24Z</dcterms:created>
  <dc:creator>USD376</dc:creator>
  <dc:description/>
  <dc:language>en-US</dc:language>
  <cp:lastModifiedBy>USD376</cp:lastModifiedBy>
  <dcterms:modified xsi:type="dcterms:W3CDTF">2011-02-16T20:24:21Z</dcterms:modified>
  <cp:revision>5</cp:revision>
  <dc:subject/>
  <dc:title>Skittles anyone?</dc:title>
</cp:coreProperties>
</file>